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D154-DA74-48AC-A801-A8A33C41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38C-734D-4F38-A444-80FD6FD6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DB2-CA37-4F4C-BADD-A0A80C19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CC31-2887-4576-B468-D63DCF32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9692-A377-4FB2-BC1D-98499B2B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22F5-9250-4EB4-84FE-54626962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1E79-1D1B-4E44-A355-D645441B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BC17-058D-490A-B856-2B105844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756B-22AF-4560-940D-18BF4BDA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7D9D-2346-431D-9BFE-B4DBFE88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25DD-1B83-4367-83AE-D0D34AEF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1DB-B295-47BC-AFA1-0FB476B0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718B-389F-4A55-A4A7-C1329488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1AC7-BA41-449E-B497-5CF91AFD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BE04-7A19-484D-AD75-C00D0DD8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702F-975C-4029-9BA7-BD450786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FDCE-406C-48C3-A7D8-D6922840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03A-2F31-4348-A60F-8719F575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1C4-D9C6-449C-8797-57A11246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F604-2AF2-486F-B16B-91A1AF0B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18B-BB99-4596-BBA4-99F30E70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808-5DA1-4FC4-8564-4430C343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BAF5-E4F8-4C03-A36A-47A6CD2A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F793-E4B5-484C-888D-41A0402B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0285-772C-4B7A-8D64-C7269ABDE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1F0C-A573-4EEF-8C1B-CD1A935F3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58128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Processing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io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cline in quality and freshness of a food or substance as it naturally breaks down into different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48320" y="2311560"/>
            <a:ext cx="40384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tein that acts as a catalyst to speed up a specific chemical reaction without being completely used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ment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 of a microorganism combined with another material to produce an entirely new product by aerobic or anaerobic proc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Dehyd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ing any water from a food substance in order to preserv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Ir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of preserving food substances by exposing the product to ionizing radiation; either from a radiation source or a radiation b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Pre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designed to prevent food products from spoiling by elimination of contaminants like microbes and enzy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71640" y="1600200"/>
            <a:ext cx="3009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Spoi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dition of food that is unsafe to eat characterized by a decline in color, flavor, consistency, and odor of the f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8320" y="2521080"/>
            <a:ext cx="40384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ifi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ntional addition of specific nutrients to a food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ze Dr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of drying certain foods by means of using a low pressure vacuum to remove water from frozen food just above the frozen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z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rom a liquid state to a solid state by loss of heat; also a preservation method performed by removing heat from food to solidify the water within the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that requires oxygen to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that makes the fat globules more evenly sized and spread throughout mi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cul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roduction of a vaccine into the body to aid in immunization to a specific dise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ant-like organism that is capable of causing deterioration of biological substances like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atab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an agreeable taste and tex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eur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of treating food that is able to destroy all pathogenic microorganisms in food but not all spoilage micro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oge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le of causing disease in humans and other org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stitut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ed or put together again; as dehydrated food can be returned to its original by adding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84676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025960" y="3938760"/>
            <a:ext cx="32814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rig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ing food by chilling only to the temperature that will not freeze the food; typically between 65º and 28º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73080" y="1600200"/>
            <a:ext cx="300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in which a food is still safe and suitable for consum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164200" y="1600200"/>
            <a:ext cx="300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roying all microorganisms or microbes in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erob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that can occur without oxygen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eptic C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ing food in a way to prevent the growth of disease-producing or spoilage microorganis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-celled organism that exists either independently or as a parasite with another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nch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quickly heating then rapidly cooling fruits or vegetables to preserve flavor and tex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Dr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ing moisture from food at its surface by using a chemical material so spoilage microorganisms are not able to g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tridium Perfrin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bacteria known to cause food pois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rcial 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that destroys all microorganisms with the exception of some bacterial sp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50:05Z</dcterms:created>
  <dc:creator>Julie</dc:creator>
  <dc:description/>
  <dc:language>en-US</dc:language>
  <cp:lastModifiedBy>Office</cp:lastModifiedBy>
  <dcterms:modified xsi:type="dcterms:W3CDTF">2009-08-05T14:52:08Z</dcterms:modified>
  <cp:revision>39</cp:revision>
  <dc:subject/>
  <dc:title>Slide 1</dc:title>
</cp:coreProperties>
</file>