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CE82-7C03-4BBC-99A1-75DDF204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5748-BE3D-4FA1-8171-25925B0B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9775-461C-4DBD-9DF6-F688FBA8A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C797-BB21-4C38-95A5-ED970375A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7096-BAFC-4527-94A0-657F08D5F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ACF0-4EA4-4B2F-961D-860A7416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678C-7385-4DBD-BBA8-6ABCE3A5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339C-ED40-4AAA-BDF8-338B47BD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730C-F812-47BB-AB9B-DA47B197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6BFD-AA0C-4C7A-86B4-98EE76A1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CCEB-1C01-4745-B2FA-17022B4C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6417-3D6B-4958-B0D9-59A7BDA7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E30A-FF11-4947-9D04-5CC61230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3E7F-D897-45EA-859D-5E75DC72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FB2D-4F1F-4930-9FD1-C55E0D30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98F3-4AAC-472D-A54C-117D6F978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447A-BFBF-442D-BFDF-9DDE93EF7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BD42-FF1E-41E9-9045-7F23060E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7E36-B0B3-43A3-81B9-D500B0FA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11AE-DBDA-46F2-9001-F46F9AE0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6360-E97B-413C-9AF8-7B410FB9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C6BE-67B1-433B-9522-AED05C85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8E93-E993-443F-A8F0-46F07A7B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3B37-9C4C-4035-90D6-4F12B95E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4992-9C09-4D85-AA0B-1D99B2404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400800" y="6248520"/>
            <a:ext cx="2293920" cy="4842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57200" y="1447920"/>
            <a:ext cx="8229600" cy="0"/>
          </a:xfrm>
          <a:prstGeom prst="line">
            <a:avLst/>
          </a:prstGeom>
          <a:ln w="76320">
            <a:solidFill>
              <a:srgbClr val="1b7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E9FD-10CF-4E1E-8F3C-AC48F4A74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819520" y="5943600"/>
            <a:ext cx="3427200" cy="723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3581280"/>
            <a:ext cx="8229600" cy="0"/>
          </a:xfrm>
          <a:prstGeom prst="line">
            <a:avLst/>
          </a:prstGeom>
          <a:ln w="76320">
            <a:solidFill>
              <a:srgbClr val="1b7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b75b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il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ent Mate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ineral or organic material from which the true soil is made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4832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co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ause something such as liquid to pass through small holes or po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60320" y="1600200"/>
            <a:ext cx="3430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me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ing pores or openings that permit liquids or gases to pass th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8320" y="2346480"/>
            <a:ext cx="40384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asure of the strength of an acid or a ba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H scale commonly in use ranges from 0 to 14, 7 being neut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rder of soil lay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366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4038480" cy="2695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 rocks, consisting of small grains, often of quart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ndy So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ixture of sandy grains mixed with soil partic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can travel more quickly though sandy soil because of sand’s irregular shape allowing space between parti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159520" y="1600200"/>
            <a:ext cx="3016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 in size between sand and clay usually deposited as a sedi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tural or man-made feature in the earth where the ground has an incline; such as on a hill or mount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48320" y="2536920"/>
            <a:ext cx="403848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il Aggreg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mation of dense so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dr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broken solid rock layers in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il Horiz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ayer in the soil that has different characteristics from the layers surrou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il P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ngle piece or unit of s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" y="2519280"/>
            <a:ext cx="40384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o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yer of earth below the topso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8320" y="1641600"/>
            <a:ext cx="403848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so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2595600"/>
            <a:ext cx="4038480" cy="25336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p most part of the soil, usually the most fert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hysical quality of the so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rough, grit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151600" y="1600200"/>
            <a:ext cx="3030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hysical features of the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7200" y="2502000"/>
            <a:ext cx="403848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2519280"/>
            <a:ext cx="4038480" cy="26859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il texture that has the smallest soil particles - .002 mm or 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lump or mass of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48320" y="2509920"/>
            <a:ext cx="40384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of soil particles being pressed together and removing the air betw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2638440"/>
            <a:ext cx="4038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o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earing away to the surface of the earth by factors of wind, water, 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8320" y="2533680"/>
            <a:ext cx="40384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of dissolving soluble substances by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2529000"/>
            <a:ext cx="4038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amy So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ich soil containing an equal mixture of sand and silt and smaller amounts of cl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162400" y="1600200"/>
            <a:ext cx="3009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al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71640" y="1600200"/>
            <a:ext cx="3009960" cy="45244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living organisms such as rocks that contain miner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21:50:05Z</dcterms:created>
  <dc:creator>Julie</dc:creator>
  <dc:description/>
  <dc:language>en-US</dc:language>
  <cp:lastModifiedBy>Julie</cp:lastModifiedBy>
  <dcterms:modified xsi:type="dcterms:W3CDTF">2009-08-10T19:02:05Z</dcterms:modified>
  <cp:revision>57</cp:revision>
  <dc:subject/>
  <dc:title>Slide 1</dc:title>
</cp:coreProperties>
</file>