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5D7-CD1A-44D3-B6DC-48C10D84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4AD-4D88-4939-B930-3D483FCD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B20A-D89D-4DDF-A9E0-92251C66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55C2-B49F-4808-B376-FE53C469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9BA3-24A7-4BA6-B357-63FA1A4D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5059-EA90-43EC-8336-5EA86EED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F7CA-83FC-4199-9090-1752E77C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8098-DC2B-4752-9902-1555B588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BB1F-7A26-4B7E-9D0D-C9A2BA18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6E78-CA0A-4F20-8DEC-3B3D69C2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41A6-3191-4E96-BBF2-96EFC5A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747-B666-4340-B9F4-E8D15E5F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39BD-43DA-4994-A710-81E69DCA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4EF4-CA03-4E4B-A8C6-6418BEA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09E-2931-461C-BB99-C8CBA8E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C2C9-E202-43FC-80D4-44C8BDCC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EC33-52AF-4566-97B3-95DFC15C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C8DA-F5FC-4A1F-A05B-15D89C52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959-4C3C-4ABA-BA3C-F4769E46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70B-688D-47C7-A018-8D1BB2FE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26E-8B2A-4CBE-9F36-3E7158BC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18ED-89F3-44B8-B99D-5A3CABA6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7D76-5C76-4EA2-B3FE-91D4140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E1A-1845-47A3-9BA7-A45B9D30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7239-BCE0-4C19-A34A-03156BE97B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48520"/>
            <a:ext cx="229392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76320">
            <a:solidFill>
              <a:srgbClr val="1b7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D6D4-CBA7-4B59-9447-C810954EC5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819520" y="5943600"/>
            <a:ext cx="342720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297144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eer Development Ev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Ex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p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Ju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al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liamentary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/Greenhand Quiz Bow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Fundrai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and Gold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J’s Fund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&amp;D M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ask, you won’t k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entation to Agricultura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ing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100 –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89 – 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= 79 – 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= 69 –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= 59 –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in various ma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s and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be annou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 quizzes will be given to reward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responsibility to get make up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day for each day mi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dy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15 minutes = ta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5 minutes = ab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E/FFA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% of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record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room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 by the tea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 aft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the pa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1b75b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refer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1b75bc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infraction, the teacher can go directly to step 5 for fighting, profanity, drugs, alcohol, disrespecting teacher, insubordinatio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3:14:53Z</dcterms:created>
  <dc:creator>Tommy Milligan</dc:creator>
  <dc:description/>
  <dc:language>en-US</dc:language>
  <cp:lastModifiedBy>Julie</cp:lastModifiedBy>
  <dcterms:modified xsi:type="dcterms:W3CDTF">2009-08-10T16:19:57Z</dcterms:modified>
  <cp:revision>10</cp:revision>
  <dc:subject/>
  <dc:title>Agricultural Education I</dc:title>
</cp:coreProperties>
</file>