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BA61-075D-4E02-8C7D-B3ABF75A3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190-9B8F-4996-9557-9DD586AE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D00-5273-4EFE-B3ED-AF2C40D1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3065-162B-4F29-9BC6-D0978ED3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D2C3-AC80-4D9F-B51A-9C8F291F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36FD-02C4-46D1-AE57-FA6ACC84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2E45-72B4-41F4-9610-2990F605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19F9-0213-4DE7-89F7-24A32AE3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D89F-0E3A-4C4B-9136-695EFB22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7BB2-D85B-4B18-84E3-02C24C31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8381-9CD0-43D2-9200-BE37016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8CB1-3132-4D56-8DD5-055D5A96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B333-D03E-429F-97BD-CEF4FCE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5B71-E9C3-4F64-90F6-0714CF44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B4EC-3068-4BCC-BA45-DD4D0823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0E6A-F17C-4519-8DAA-17E5567E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EF11-563D-4A79-99CB-EDD6A3689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422-1CE3-4BC4-902B-71871EBB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41F-20B6-48B4-973C-0CC11DFE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8D5-EDC6-42D2-B553-5B72A6F4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513-E988-415F-AB85-5CBC749E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847-CC60-43DB-815F-1A1E11C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5E1D-286C-484E-9040-5720099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EE9C-FFA3-4920-8AA6-8C558BEC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4C64-329D-4B76-AAB3-2FD943768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16F4-5C49-4201-856D-912AECCEA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th Regulation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d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s where buds, leaves, branches, etc., grow out from the 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tard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s that slow down the growth in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ing 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es which accelerate root growth when propagating plants from cu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stoc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ece of a root used for graf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mul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emical agent that temporarily accelerates activity, especially growth when used in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lopat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of one plant to have a toxic effect on another by the production of a chemical compound of the toxic pl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cal 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ay for plants to prevent or slow growth of lateral buds on the same shoot by the terminal bud releasing chemic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xi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ormone used to increase and accelerate growth of plants through stimulation of cell grow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stimul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growth stimulants from living beings that are able to help soil microbial activity, plant growth, and disease resistance in pla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ormone that works with auxins present to increase cell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bberelli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ormone that uses cell elongation to cause growth in the stems and leaves of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regulating sub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ibito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mones that speed up the ripening of fruit, but they slow the germination of seeds, as well as, stem elon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Office</cp:lastModifiedBy>
  <dcterms:modified xsi:type="dcterms:W3CDTF">2009-08-03T16:42:36Z</dcterms:modified>
  <cp:revision>37</cp:revision>
  <dc:subject/>
  <dc:title>Slide 1</dc:title>
</cp:coreProperties>
</file>