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FF1-4D7D-45B4-989F-68E9F84B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7FEC-3D71-482E-AD65-6E5C3514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3FFE-507B-4057-A377-D37A7DE0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774-35EA-4B7C-B392-2474683D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8000-EF9C-48A8-8E6D-B343CE80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13B0-7555-4697-BE5E-176F7072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43DD-96F9-47D6-9DE7-556BB75D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D348-552A-49C6-BDA5-EC851FE9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6DC0-137E-462F-8142-3C49CE4A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2DB7-E284-4CD2-9967-ADB6770E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F070-D85B-4455-9354-882C67D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A32-1A4D-45AF-B5B8-356A4DE7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FBCF-D2C2-4099-AC40-8711B492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CC71-BA4D-469B-9653-41621786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96D8-0D3B-4E4C-98AD-C5ACC75B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C0F0-338C-4DBF-AD3D-5F34DFF0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FAE3-EF21-42FD-B249-51B3200D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277-E98C-4EDE-B913-027A8CAD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5BC-4936-42D6-91E3-0489380E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924-6022-4B7C-99FA-A3B4E31D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77F-6A77-48CB-B1C8-11688797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584-FC14-41EE-8665-D19ADFB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4EA-5A1F-4A38-BBF8-5F8539DB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28F-31C2-49C8-A78C-E6C92C6E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073-CC7C-4181-AA78-74521C7F9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58C1-D4E5-4CD2-BF8B-F73602836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58128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by which plants produce food using carbon dioxide and water in sunlight with chlorophyll to make sugar and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 reproductive part of a flower where the eggs are loc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tilization process when the pollen cell is transferred to the female plant part where the eggs are 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9320" cy="45244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plant that absorbs nutrients from the s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carbon dioxide is absorbed by plants and oxygen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09640" y="275256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fy protection around the flower before it blo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er’s male reproductive part containing the po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7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62240" y="2195640"/>
            <a:ext cx="2228760" cy="3333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lk-like portion of a plant that transports necessities throughout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plant cells characterized by green color that make food for the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48320" y="2344680"/>
            <a:ext cx="403848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560840" cy="3033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ower that has both male and female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with two seed le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48320" y="2328840"/>
            <a:ext cx="4038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84240" y="1639800"/>
            <a:ext cx="2984400" cy="444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ngle layer of cells that form the skin of a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productive structure of a flowering plant which attracts insects for poll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at, fleshy part of a plant that absorbs sunlight and produces food for the pl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251604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co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n with one seed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1639800"/>
            <a:ext cx="2971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71640" y="1600200"/>
            <a:ext cx="3009960" cy="4524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rful leaves of a f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50:05Z</dcterms:created>
  <dc:creator>Julie</dc:creator>
  <dc:description/>
  <dc:language>en-US</dc:language>
  <cp:lastModifiedBy>Julie</cp:lastModifiedBy>
  <dcterms:modified xsi:type="dcterms:W3CDTF">2009-08-05T14:49:05Z</dcterms:modified>
  <cp:revision>40</cp:revision>
  <dc:subject/>
  <dc:title>Slide 1</dc:title>
</cp:coreProperties>
</file>