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512-49A1-4C8E-A1B8-E413DD0F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F463-2EE0-42A1-9361-65AB68E0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FE84-B5BA-4383-BB62-474B6324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65EC-A6B1-4000-BF79-91CEE544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0338-7DA3-403B-9CE2-F4F5054F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0DFD-8D54-4BBC-9437-DC99FD31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4826-7017-44DE-995A-B363739E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8C6E-AEC9-487E-AE14-19FA0AC3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BBBE-FB66-4976-AB4A-4C7F7582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A0C4-C04B-4F21-B3D6-A216CD6C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A109-FBBB-49D1-B0FC-69799903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FA2-192F-43B2-A80B-D6D6A612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5026-DC67-43A8-A686-EC0D3B9D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AEB2-9B77-4460-BB6B-F317A1B8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8376-A3FD-4E23-A32A-9AB71267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1784-CBB2-43DB-AC71-AD164802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2C67-7424-4B06-94E8-8C2D4D49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24D3-BACF-4767-9580-1AE4EE19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F6F9-2B11-44F4-83D4-059C5F4E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D2AC-30A5-40BC-9F2B-1934CFEB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6DEB-D43B-4B94-B5F5-3854A0B0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04B6-E238-4046-8FB3-56A0B94B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C10C-5E89-421D-9428-60804C72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D8CA-091D-492E-8ABD-5A78BAF7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D3E2-CDB0-4E9E-BBD5-7A35B1AB5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00800" y="6248520"/>
            <a:ext cx="229392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C124-EB8D-42D4-B640-11EF47C7C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19520" y="5943600"/>
            <a:ext cx="342720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358128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str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duo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 which shed their leaves yearly, preparing for new grow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Oak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8320" y="2519280"/>
            <a:ext cx="40384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ore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2533680"/>
            <a:ext cx="4038480" cy="2657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ing all trees in a forest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rg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s that keep their foliage year round and do not shed until new growth has come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2519280"/>
            <a:ext cx="40384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ranch of science that studies plants and maintains fo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od from deciduous or broad leaf t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Birch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2971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rt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2519280"/>
            <a:ext cx="4038480" cy="26859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enter wood of a tree that is usually very dense and h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r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all cut made by a saw in a piece of w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48320" y="2521080"/>
            <a:ext cx="40384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ut length of a tree tru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517840"/>
            <a:ext cx="40384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harvesting trees for l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519280"/>
            <a:ext cx="4038480" cy="26859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od from trees that are split into boards or pl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ual 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nual growth of wood in trees and other pl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usually be seen when the trunk is cut down and the inner core is expo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y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ve material made from gluing thin layers of wood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lant matter that is left over after pressure has been applied and juice extr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ore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-planting of trees after an area has had fire damage or has been harv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2519280"/>
            <a:ext cx="4038480" cy="26859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ee that is at least the height of four and a half feet tall and is four inches in diameter at the tru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rink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which the wood of a cut tree shrinks because the water supply is l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vi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nagement of fo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ee that is no longer living yet still 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7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wood that is relatively soft and easy to c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ine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2989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owing trees in a specific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160960" y="1600200"/>
            <a:ext cx="3011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od of living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65160" y="1600200"/>
            <a:ext cx="302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marking trees that are to be cut down in a specific boundary line by paint or cutting the ba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2652840"/>
            <a:ext cx="403848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in layer of 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10040" y="1600200"/>
            <a:ext cx="3513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ting a  felled tree into specific sized lo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8320" y="1990800"/>
            <a:ext cx="40384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pper level of vegetation consisting of the crowns of tr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g that has been processed for lumber by removing the bark and squared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r-c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2519280"/>
            <a:ext cx="4038480" cy="26859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ting down all the trees in an area for harv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i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ee that produces it’s seeds in cone like append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ine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8320" y="2519280"/>
            <a:ext cx="40384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dw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66960" y="1600200"/>
            <a:ext cx="3017520" cy="4525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ee which is dead before being harves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21:50:05Z</dcterms:created>
  <dc:creator>Julie</dc:creator>
  <dc:description/>
  <dc:language>en-US</dc:language>
  <cp:lastModifiedBy>Office</cp:lastModifiedBy>
  <dcterms:modified xsi:type="dcterms:W3CDTF">2009-08-05T15:11:25Z</dcterms:modified>
  <cp:revision>45</cp:revision>
  <dc:subject/>
  <dc:title>Slide 1</dc:title>
</cp:coreProperties>
</file>