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5DB1-A0EB-40D9-928A-4B2E79D7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F5F-34C8-4A2C-AA5B-6D3220D8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F9C-FD95-4A62-AF6F-4EBAE38C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8AE-21F1-4351-9B00-021ADAB2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BACD-74D0-48A1-A0C8-2F5347EE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73DA-8AC9-4BCD-9C42-E167C316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E408-EEB5-4529-94E0-9C653D22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50C6-6302-443E-9BFA-B61ED127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7150-1B49-426E-9C3D-EA51EAB3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AA45-5C90-43EE-A6A9-CECAC4CA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694B-D5DE-4D7E-8CDF-62EA9B27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0F8-F6A3-459F-BCBC-C979AF30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4813-23CB-4D7C-822A-3853EF6A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C329-A922-486A-8F8A-AE6643FE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97D3-0351-4738-9FDF-EE6775DE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E1FC-2A52-4A55-AEC8-322E973E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3EA5-0B11-4B0E-9C87-F16B25B7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5277-7B05-4207-A453-881BC2E8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E91-1862-42D3-AA89-E6DACF3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884-2280-433A-97E2-50C7B919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CFC-AAE9-4D07-A003-81416480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B2A-D443-4CF8-BFB8-580CE5C6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56B8-C1D5-464D-8D51-AE68E05A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7B1-633E-4FDB-A7A5-42989418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9920-1BA5-4CB0-8DCD-ACFB15AFC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5579-7FFE-4DC4-8C4F-4F0B91DBB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t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v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for goat chee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48320" y="2033640"/>
            <a:ext cx="403848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bu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al of the horns of goats around five days of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male goat of any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otoxa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 in goats caused by a toxin producing bacter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over eating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oup of go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265104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ppy Kid Syndro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ndition that occurs in kids three to ten days after bi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are extreme muscle weakness and reluctant to nu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ing a doe extra feed two weeks prior to bree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 Ro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mmation of an animal’s foot due to walking in wet ground and receiving an infection in the animal’s hoo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ts of either sex up to one year of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489040"/>
            <a:ext cx="40384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rthing process in goa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t Fa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fe span of a goat is eight to twelve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ldwide, more people eat the meat and drink the milk of goats than any other single anim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ry goats have a strong herd instinct and prefer the companionship of at least one other go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t milk has a more easily digestible fat and protein content than cow mil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ts are usually dehorned when they are very you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lammation of an animal’s udder which can be infectious or noninfectio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in milk production and swelling of the udder are symptoms of mastit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h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er taken from Angora goa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ta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ase caused by bacteria that inters the body through open wou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toms include muscle spasms and moving stiff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strated male go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used to describe a secure distention of the abdomen by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nt eater that world rather eat weeds, shrubs, and tre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le goat of any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br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d meat of a young goat normally around forty pou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ra hir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entific name for goa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2478240"/>
            <a:ext cx="403848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hm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ber taken from the goats soft, fine, winter underco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v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used to describe meat from older goa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34:55Z</dcterms:created>
  <dc:creator>Julie</dc:creator>
  <dc:description/>
  <dc:language>en-US</dc:language>
  <cp:lastModifiedBy>Office</cp:lastModifiedBy>
  <dcterms:modified xsi:type="dcterms:W3CDTF">2009-07-06T16:08:23Z</dcterms:modified>
  <cp:revision>18</cp:revision>
  <dc:subject/>
  <dc:title>Goat Terms</dc:title>
</cp:coreProperties>
</file>