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F7D49-13BD-4856-9FFB-C616E6474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E253-0592-4596-84F3-7FAE22EB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B35C4-09DB-4235-AF23-CB7CA9B7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ACD4B-9538-4D26-9867-CD50758ED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76A11-87A2-4BAD-91CC-3339A692A7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6FB37-5D55-4795-86AC-DA0B3B17D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E23E5-34FE-471D-B831-C5808C5B6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B3412-CFAD-43FD-B99C-F0D1277E5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D528F-9174-4622-AE19-8C6A9CC11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65BC0-1950-4F6F-A947-FC3B68ECA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CC411-04BF-4C6B-A444-AFBECBFA2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9D68C-38BD-4DA0-BE78-3B96B28A7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A17C9-C511-4D75-AA7B-E236E3376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A20CD0-E1C7-4B4D-AE89-50820D32C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092A9-67F9-4D0A-B527-2A85A87A05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407D5-2B84-4C6F-9D27-A0E835C69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E6E87-4EA6-4B89-9F6B-F6E00EBC1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E83F8-9E29-4F97-8711-E05743A20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67D5-0E6E-4973-A638-32E9A7276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2AC31-2F5D-40D2-A5DA-DB54C4441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4EE46-899A-4959-9E31-5AA90532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92B9-9C3A-40F8-906D-D3E451546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4C9E-BCDD-4E09-890F-0994FAD4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395F-A361-40A7-8C32-CF5CDDB68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4F69-9213-4BA3-81FE-14AF51F7E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400800" y="6248520"/>
            <a:ext cx="2293920" cy="484200"/>
          </a:xfrm>
          <a:prstGeom prst="rect">
            <a:avLst/>
          </a:prstGeom>
          <a:ln w="0">
            <a:noFill/>
          </a:ln>
        </p:spPr>
      </p:pic>
      <p:sp>
        <p:nvSpPr>
          <p:cNvPr id="6" name=""/>
          <p:cNvSpPr/>
          <p:nvPr/>
        </p:nvSpPr>
        <p:spPr>
          <a:xfrm>
            <a:off x="457200" y="1447920"/>
            <a:ext cx="8229600" cy="0"/>
          </a:xfrm>
          <a:prstGeom prst="line">
            <a:avLst/>
          </a:prstGeom>
          <a:ln w="76320">
            <a:solidFill>
              <a:srgbClr val="1b75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CF60-6082-44B6-8DE9-8A1640DA3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2819520" y="5943600"/>
            <a:ext cx="3427200" cy="723960"/>
          </a:xfrm>
          <a:prstGeom prst="rect">
            <a:avLst/>
          </a:prstGeom>
          <a:ln w="0">
            <a:noFill/>
          </a:ln>
        </p:spPr>
      </p:pic>
      <p:sp>
        <p:nvSpPr>
          <p:cNvPr id="48" name=""/>
          <p:cNvSpPr/>
          <p:nvPr/>
        </p:nvSpPr>
        <p:spPr>
          <a:xfrm>
            <a:off x="457200" y="3581280"/>
            <a:ext cx="8229600" cy="0"/>
          </a:xfrm>
          <a:prstGeom prst="line">
            <a:avLst/>
          </a:prstGeom>
          <a:ln w="76320">
            <a:solidFill>
              <a:srgbClr val="1b75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1b75b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1b75b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1b75b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and Fire Safety</a:t>
            </a:r>
            <a:endParaRPr b="0" lang="en-US" sz="4400" spc="-1" strike="noStrike">
              <a:solidFill>
                <a:srgbClr val="000000"/>
              </a:solidFill>
              <a:latin typeface="Arial"/>
            </a:endParaRPr>
          </a:p>
        </p:txBody>
      </p:sp>
      <p:sp>
        <p:nvSpPr>
          <p:cNvPr id="87" name="PlaceHolder 2"/>
          <p:cNvSpPr>
            <a:spLocks noGrp="1"/>
          </p:cNvSpPr>
          <p:nvPr>
            <p:ph type="subTitle"/>
          </p:nvPr>
        </p:nvSpPr>
        <p:spPr>
          <a:xfrm>
            <a:off x="762120" y="3886200"/>
            <a:ext cx="76197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Test Series – Exam 3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re blanket is used to put out fires, not to keep finished welding work from cooling off too quickly and cracking.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Fire blankets are to be used to extinguish f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e "A" fire extinguisher is used to extinguish ______ fires.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ble materials such as paper, cloth and wo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e "B" fire extinguisher is used to extinguish ______ fires.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 liquids such as burning oil, gas and paint thin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e "C" fire extinguisher is used to extinguish ______ fires.</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ical such as electrical motors, equipment and break bo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e "D" fire extinguisher is used to extinguish _____ fires.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ble metals such as burning zinc, magnesium and titan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elders should practice using a fire extinguisher before a fire breaks out.</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Under the supervision of the instructor.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stand in water or on a wet surface when welding.</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Standing in water increases the chance of electrical sh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fire extinguishers used in the welding area are combination extinguishers, which means that they must be used with other fire extinguishers in order to put out a fire.</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Combination extinguishers are used to put out a combination of fire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ermissible to talk to other welders when they are cleaning a weld or using some other equipment in the welding area.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Any type of distraction could cause an acci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cedure should be followed before using a grinder?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grinding wheel for chips and cracks.</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e power cord for any de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1</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thought most metals produce smoke and fumes when being welded, the welder should not be concerned because smoke and fumes only smell bad, they don't harm the eyes or lungs.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Smoke and fumes are very hazardous to human heal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erious injury that can be caused by water on the floor, or around the welding cables, is slipping and falling down.</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Electrical shock can occur when water is pres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starting to weld in any welding area, a welder should know the type and location of every fire extinguisher in the welding area.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A welder should also know the location of the eye wash station and first aid k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fore a welder cuts or welds a container or tank, the prior liquid contents of the container or tank must be identified.</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It is important to identify the prior content and its flammability or combustibility.</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ting" a container means cutting a hole in the container so the smoke and fumes can escape when the container is being welded.</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Prior contents should be identified, container should be cleaned and filled with water.  Venting will allow steam or air pressure to be releas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reason to put water in a container before welding or cutting the container is to prevent the build-up of heat. </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Other reasons include preventing residue from combusting.</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including the instructor, should weld on a container unless the prior contents have been determined and the container has been cleaned with the proper cleaners and equipment.</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welding and the ventilation system is not working, you should open the doors and windows to produce a draft, or breeze, in the welding area.</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A draft or breeze increase the chance of an unwanted fire.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lding with certain rods on particular types of metals, you should wear a respirator to protect your lungs from the noxious smoke and fumes.</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 When welding or cutting on galvanized materials, zinc poisoning can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a "fire watcher" in a welding area is to watch fires and warn other welders if a fire is becoming too large and dangerous.</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se – The purpose of a fire watcher is to inform the welder of any f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21:50:05Z</dcterms:created>
  <dc:creator>Julie</dc:creator>
  <dc:description/>
  <dc:language>en-US</dc:language>
  <cp:lastModifiedBy>Mr. Milligan</cp:lastModifiedBy>
  <dcterms:modified xsi:type="dcterms:W3CDTF">2009-08-14T03:00:01Z</dcterms:modified>
  <cp:revision>45</cp:revision>
  <dc:subject/>
  <dc:title>Slide 1</dc:title>
</cp:coreProperties>
</file>