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8D0E-C755-4FBA-BE2C-5C76F0E5B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BFFD-8085-4406-8D1D-53E33BF4C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882F-1BAC-4882-84A4-A030DBB94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9611-B2BE-4BE3-AE81-6FAD78987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B507A-01FD-40E1-BCEA-D7B46B44C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DEA07-EA7E-46D2-95DB-005D7BBB9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10EF5-3811-4C1C-B000-36DB41A27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10DF5-A405-4916-8DB2-36539545C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D8254-5F0D-48CA-8215-F716E080F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53993-8431-4F07-8B99-9131A016A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6CBFC-2D9F-408B-973F-8BA0B5F1D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82CA-862E-405F-8B22-9E3ADE363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49C02-ECBD-44C3-8456-7642F5B04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650B1-6FE5-4723-9A30-084C43CBB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BCD4E-4E79-434D-AC85-A51B23034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3A73F-9D71-4AE3-8894-9F3FC69D1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59349-037B-478A-80C8-82970FACC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43B0-7955-4C0E-9626-7FAC29C04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458D-FD07-4986-AF11-7E4364018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9181-8607-4DB1-8A37-AD9860CDA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DF50-6487-45DA-A25F-2B0443818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56BD-0904-48E2-865A-BF0BEF6AF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3C52-6734-42F6-83D0-9A5943682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7131-9A70-41B0-A5FE-8B3C8BD48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b75bc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b75bc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B8E4B-0DEC-47F8-9B51-738970EA79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400800" y="6248520"/>
            <a:ext cx="2293920" cy="4842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457200" y="1447920"/>
            <a:ext cx="8229600" cy="0"/>
          </a:xfrm>
          <a:prstGeom prst="line">
            <a:avLst/>
          </a:prstGeom>
          <a:ln w="76320">
            <a:solidFill>
              <a:srgbClr val="1b7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9B0A1-321C-4B8C-BAE0-D00CB5A830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819520" y="5943600"/>
            <a:ext cx="3427200" cy="7239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b75bc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b75bc"/>
              </a:buClr>
              <a:buFont typeface="Wingdings" charset="2"/>
              <a:buChar char="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ed and Nutrition T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imal feed that is made largely up of plants such as grasses and hay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159520" y="1600200"/>
            <a:ext cx="3016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dible seed of any grass plant such as wheat and soybea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7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t material that has been cut and dried for the purpose of feeding it to livestoc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648320" y="2516040"/>
            <a:ext cx="4038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gu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lant family that builds up nitrogen in the soil such as alfalfa and soybean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151600" y="1600200"/>
            <a:ext cx="3030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xed Graz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ituation where two different species are grazing in the same area of pas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ugh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ed that is high in fiber and low in nutrients such as straw and sila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164200" y="1600200"/>
            <a:ext cx="3004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argest stomach compartment of a ruminant animal where bacteria begin to break feed dow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min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imals that have more then one stomac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l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rop that is usually stored in pits or enclosed areas at high moisture levels. Some crops that are used as silage are corn and sorghu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648320" y="2516040"/>
            <a:ext cx="4038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cking 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pecific number of animals on certain area of land at a date and tim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648320" y="2516040"/>
            <a:ext cx="4038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ino Ac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duct of protein decomposi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em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ack of hemoglobin, iron, or red blood cells in a animals bod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ent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s to a feed high in energ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ep Fee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ethod of feeding young animals by placing a fence around feed in which only the young animals are capable of going throug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wad of regurgitated feed or roughage in a ruminant's mou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en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ethod of giving an animal medication through its mouth. Dose syringes are most commonly used to give the animal the medic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t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eeding method used to help animals gain fa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edl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a where animals are penned up and fed to be slaughter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648320" y="2521080"/>
            <a:ext cx="403848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9T15:51:17Z</dcterms:created>
  <dc:creator>Julie</dc:creator>
  <dc:description/>
  <dc:language>en-US</dc:language>
  <cp:lastModifiedBy>Julie</cp:lastModifiedBy>
  <dcterms:modified xsi:type="dcterms:W3CDTF">2009-06-29T15:02:49Z</dcterms:modified>
  <cp:revision>11</cp:revision>
  <dc:subject/>
  <dc:title>Feed and Nutrition Terms</dc:title>
</cp:coreProperties>
</file>