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E6DE-A20F-4A32-90A0-C7037181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4821-B1E6-4C80-AE25-2043AB53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9A26-C40F-42D1-96BB-A2D5B8A2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360A-8FF3-49AF-B7FC-3DB2E0FB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A4CC-6782-43F3-89AF-0CC9DE98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8BA0-3B22-4F85-B0C2-9ED8E5A3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0CF9-BCB9-493E-89D4-DB23AF2D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8A98-378D-4D76-93EA-192AA987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6AF1-273A-4B71-9CEB-1FCB8C76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3694-FAA1-4A14-B220-B63A89B4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238F-93AF-44B8-AE58-3836471C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AACA-DFCC-4709-900E-8835F3A5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E4CC-CB30-41A4-A69B-D54097E7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33A2-39D3-4675-B577-A6DE26E1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54C3-D3B5-4BEE-A8BF-34BAA1D3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5C77-5A6A-4B3F-AE22-1180A57A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097A-EDCF-4786-9EAF-99AAB665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9D14-16FD-44A6-9E8C-FBB3018E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A257-DEDE-41CD-862D-61DAFC5F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E3AE-0B27-40FC-AD6D-9473ABBC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63DC-0441-441B-868D-F05AF540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3567-6128-4888-A0D7-02DA4AC3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30F0-A512-4504-8E7C-88934552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7431-FEA3-4D81-ABB3-729BBB13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BB16-C199-466A-B316-7A3C4FAE3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00800" y="6248520"/>
            <a:ext cx="229392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76320">
            <a:solidFill>
              <a:srgbClr val="1b7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D24C-324B-4F98-BE3C-20A7682BA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19520" y="5943600"/>
            <a:ext cx="342720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ne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riod of time between when a sow is bred to when she begins farrowing, which is around 113 to 116 days. (Pregnan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male swine that has not given bir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oup of pigs kept together that may not be genetically link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8320" y="2509920"/>
            <a:ext cx="40384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oup of piglets born at the same time to the same mother. Normal litter size is 8 to 12 pigle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48320" y="2519280"/>
            <a:ext cx="40384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 We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ferred weight for a pig to be at time of slaughter. Preferred weight is 240 to 260 pou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rs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ge in-between weaning and feeding out for slaughter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48320" y="2519280"/>
            <a:ext cx="40384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young swine not yet at market weight. Usually weighs around 120 pou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g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young male or female sw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g that is designated as a growing pig that weights between 60 and 160 pou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Pi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g that has been chosen because of its superior and outstanding phenotype to be taken to competitions called show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ne Fa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ne were among the first of all animals to be domesticated, around 6,000 years a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lin and about 40 other medicines are made from pi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g heart valves have been used to replace damaged human heart val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around the world eat more pork than any other meat. In the US it ranks behind beef and poul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gs have small eyes and poor eyes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male swine that has produced at least one litter of piglet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le pig castrated after sexual matur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nner in which pigs are removed from the sow and are no longer allowed to depend on the mothers milk for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r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strated male sw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ncastrated male sw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n B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of the United States where the major cash crop is corn. Iowa, Indiana, Missouri and Nebraska are all in this part of the U.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r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rthing process for sw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rowing Cra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n which a sow is put in to deliver and nurse pigle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llows piglets to nurse but prevents the sow from crushing the piglets by setting on th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row to Finish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usiness that deals with every step in raising pigs, from breeding to farrowing and feeding for slaugh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48320" y="2492280"/>
            <a:ext cx="40384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er Pi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g that weighs between 35 and 50 pounds and is prepared to be fed for slaught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5:32:20Z</dcterms:created>
  <dc:creator>Julie</dc:creator>
  <dc:description/>
  <dc:language>en-US</dc:language>
  <cp:lastModifiedBy>Office</cp:lastModifiedBy>
  <dcterms:modified xsi:type="dcterms:W3CDTF">2009-07-02T15:44:33Z</dcterms:modified>
  <cp:revision>21</cp:revision>
  <dc:subject/>
  <dc:title>Swine Terms</dc:title>
</cp:coreProperties>
</file>