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06C-C613-4FFF-8B36-7B0FD606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EEB-A8F7-4CA7-9E8F-49406BB6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9D6-1527-4F7E-8A18-4EF75EFE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0A3-D8CD-4F8A-87DE-D01A0FE8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C335-1FEC-4337-91F9-74F2229C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4BC-429A-4A38-BEE1-7117AB8A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009C-182D-40F3-81F2-B95A375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9BF0-9FFB-48B5-B90B-3447E0B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57C3-15CD-47AF-AB93-B47B9529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D3CC-3975-4EAA-8F5E-D3A28A4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AF42-8874-4695-A7DA-49357BF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68E-D536-4DE4-B817-6AF1F2D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440A-DD73-46EB-BCC4-F0EF5890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91F4-9152-4DE8-B0D4-E312A2E3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0FD-FCC5-4961-8B22-357D5537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F70F-C3F6-41A1-8246-23DD61C0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C11E-8936-436C-83F6-15B77434A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0E12-3FF4-4F0C-9498-1C4652B3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7F1-7DA4-4BD8-ACBA-2CB76905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43E-D0FF-4FEA-84E8-92862A13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1CE5-EF2B-4FE4-B9EF-13C720B7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195-441F-439B-B0AC-3C9A19F6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656-E7DB-4083-A6B9-7241E181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6F7F-90E6-42B1-8DB9-CC39C965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91E9-4C6A-448A-81F0-BFDBB8D95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3C9-2991-4ECA-8315-452BBFC34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ing Environment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or sand substitute in which plants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754280"/>
            <a:ext cx="403848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placed on the soil surface to help retain soil mois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– Wood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at M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ng vegetation that is found under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2354400"/>
            <a:ext cx="403848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li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y colored volcanic material used to improve a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2379600"/>
            <a:ext cx="403848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anent Wil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when wilting reaches an extreme and causes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60480" y="1600200"/>
            <a:ext cx="30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perid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of a plant’s growth to the different periods of day and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ive Humi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ount of moisture in the 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22160" y="1600200"/>
            <a:ext cx="3507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ndy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s that contain less than 20 percent of silt and clay by weight and do not hold moisture or nutrient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68400" y="160020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w-release Fertiliz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food that is slowly made available to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25178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erial composed of sand, silt and/or c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ing soil to air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agnus M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ried remains of acid bog plants that is shredded and holds moisture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aporation of water through the plants leaves and 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2403360"/>
            <a:ext cx="40384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 B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k from pine or oak trees that are broken into small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2519280"/>
            <a:ext cx="40384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micu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material that has a neutral pH which holds moisture in planting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lection or clumping of soil part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that is held against the force of gravity in the pore spaces of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2511360"/>
            <a:ext cx="40384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y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il that must be at least 30 percent clay and holds moisture and plant food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ational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ter the soil cannot hold against the force of gr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c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 nutrients washing out of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esto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of rock that raises the pH levels in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523960"/>
            <a:ext cx="403848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my S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balanced soil containing nearly equal parts of clay, silt, and s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251784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Office</cp:lastModifiedBy>
  <dcterms:modified xsi:type="dcterms:W3CDTF">2009-08-07T14:56:09Z</dcterms:modified>
  <cp:revision>45</cp:revision>
  <dc:subject/>
  <dc:title>Slide 1</dc:title>
</cp:coreProperties>
</file>