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795-5E2A-456D-8677-A922ABD1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247-D486-4DB1-BA2D-D3EFA2E9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0CBC-E938-45B6-B2FF-A7CAEC23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AE97-8417-4E7D-9A33-E7994269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C5D5-78E5-42BA-B58C-233D01E3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BA0D-BC1A-43B5-BCC0-35A5EFC1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2066-83C9-483E-A67E-FB4CD5C4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03A3-C501-4BA8-9E31-4A84F5DB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E6A1-F954-4D43-8A71-3A8ABE34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6E99-A079-49E1-9E75-D3FE51E7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C982-6D39-4353-8232-4FCFED05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939-D40F-4D8A-B3C3-3F657816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3E73-C3B5-4378-A5F3-76F85CAA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C6A3-84CB-465A-A673-7B9F2F83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4873-CF6D-42C1-B68D-30AF32AB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6C56-13B9-4281-AF4C-3A0599D9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37D1-6172-4553-AE5E-16E14983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5144-E0C9-47EE-94FF-BD680F0A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66D-6F81-4358-87FC-4254DB1F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027-A33B-4E3E-879D-023BBE4A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DEA-4A61-4B49-80C5-1C9656FD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FBC-2694-4396-A4DC-E4655D24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BE3-407A-4BC6-8410-DAD19091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A80-458F-4527-916F-E9204435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C729-9878-4CCE-9B98-D79C4C0DC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D860-255C-4DB2-BF19-5C5CBA2ED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58128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 Nutrition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i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rtion of the digestive process using the tongue and teeth in the mouth prepare the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bol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nge of processes that occur within the body of any living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er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, naturally occurring substances that humans consume for proper health and grow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41880" y="1600200"/>
            <a:ext cx="3051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’s source for proper nutrition and nourish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lecule composed of amino acids that is used for various functions in the body, including, maintenance, growth, and re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urated F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lid fat at room temperature that carries a maximum number of hydrogen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4038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arbohyd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bohydrate that is composed of three or fewer linked simple sug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ry common complex carbohydrate found most often in plants, such as corn and potat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2579760"/>
            <a:ext cx="403848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saturated Fa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quid form of fat at room temperature that are long carbon chains that are missing some hydrogen ato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54480" y="1600200"/>
            <a:ext cx="3024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tami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number of complex chemical substances that are needed by the body in small amounts to maintain normal growth and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66960" y="1600200"/>
            <a:ext cx="3019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t of energy equal to the amount of heat energy needed to increase the temperature of one gram of water 1º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dorless, tasteless material made up of two hydrogen atoms and one oxygen atom that is essential to the body for hydration and all metabolic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f a group of organic compounds, including sugars, starches, and cellulose; it is a major source of energy for all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Carbohyd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carbohydrate made up of simple sugars linked together as a polymer ch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es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version of food into simpler forms, such as nutrients, that can be absorbed by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0560" y="1600200"/>
            <a:ext cx="2832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ty Cal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ories consumed that are equal to no nutritional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800600" y="2590920"/>
            <a:ext cx="358128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Amino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ino acid that cannot be produced by the body; therefore it must be consumed in as part of a di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225440" cy="218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867280" y="3962520"/>
            <a:ext cx="15811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ents that are the major storage form of energy in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n-digestible complex carbohydrate that is found in fruits, vegetables, and gr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2489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1:50:05Z</dcterms:created>
  <dc:creator>Julie</dc:creator>
  <dc:description/>
  <dc:language>en-US</dc:language>
  <cp:lastModifiedBy>Office</cp:lastModifiedBy>
  <dcterms:modified xsi:type="dcterms:W3CDTF">2009-08-05T18:52:25Z</dcterms:modified>
  <cp:revision>34</cp:revision>
  <dc:subject/>
  <dc:title>Slide 1</dc:title>
</cp:coreProperties>
</file>