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AFDF-601F-4119-BA47-BD37F5A1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6086-AA4D-44FF-826A-D20CDB97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C0E-1DD5-4CDE-9B22-F855544F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8E7-53E8-425D-9D81-C4B2C151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FEEC-9D8A-44A4-8A26-3F99C418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1EEB-DE91-427E-B610-B7AE90EE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B648-E193-490A-8F93-5E31FCE6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0C9F-5D8B-4D2F-B8B4-964A08D7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35D7-2894-4712-B11D-ED5D4BA9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7897-FE5D-4B31-83C4-E08A20F1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5A00-89BA-40D0-9464-C206517D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B2B6-3684-4C51-A963-FAD3A317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461A-F5C5-4191-8A04-8B2D8C4C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6830-3875-4EB5-8EE0-4D259A8F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BEFF-9CE6-483B-978E-C7022868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E2DC-EBA2-42CB-8CC4-3683DA62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B7D3-A1A5-4C8F-9F98-1ED383F9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C4A-CFDD-4D7F-8844-61B51208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1FD-7042-4A41-8E6E-19F423E1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718-EFD9-4BD3-A433-FB21F791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941-94B7-4E2F-A583-34907FEC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BFF-A483-46E6-8158-0D5F79AF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D12-76D3-4572-ADFB-1DFF9466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39C-E2C8-4E7B-AE12-E4106D87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B760-A4F1-46F7-B3DE-3C8F04CDD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00800" y="6248520"/>
            <a:ext cx="229392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369E-9CCA-44AA-A536-2BAF1C113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19520" y="5943600"/>
            <a:ext cx="342720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 and Disease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the ability to not get a disease because of administering a vaccine or having already had the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amuscular (I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jection directly into the musc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aperitonea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jection into the abdominal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avenously (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jection given directly into the ve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ease affecting the metabolism in animals, causing them to lose appetite and have malnourished hair and sk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e Vac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irus that is capable of infec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flammation of a animals ud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 include decrease in milk production and swelling of the ud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rop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ing an animals body to discover cause of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neumo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id in the lungs causing them to swell and making breathing more diffic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io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tary supplements given to animals and livestock in the form of live bacteria or yea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ck of iron, or red blood cells in a animals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mone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d-shaped bacteria that cause food poisoning, a high fever, and diarrhe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l infection in animals that result in diarrh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ap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ease in sheep and goats that shuts down the central nervous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cutaneo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ath the sk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c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jection given to animals to protect against a diseas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draw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ge before slaughter when drugs cannot be administ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o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nsfer of diseases from animals to hum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Ringw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bio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or mold that is used to kill germs and fight off infections  inside anim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ce that a body makes to fight ill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ss of gas built up inside an animals body that can lead to death if proper precautions are not ta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ccidiost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of putting chemical agents in poultry birds’ water or feed to prevent disea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 C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cteria usually found in the lower intestine of animals, most commonly mam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rug used by a veterinarian in a different way then what was me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t R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mmation of an animal’s foot because of exposure to constant moisture, resulting in an inf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5:53:23Z</dcterms:created>
  <dc:creator>Julie</dc:creator>
  <dc:description/>
  <dc:language>en-US</dc:language>
  <cp:lastModifiedBy>Mr. Milligan</cp:lastModifiedBy>
  <dcterms:modified xsi:type="dcterms:W3CDTF">2009-07-02T15:08:17Z</dcterms:modified>
  <cp:revision>10</cp:revision>
  <dc:subject/>
  <dc:title>Health and Disease Terms</dc:title>
</cp:coreProperties>
</file>