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9B5-DEC9-4344-AB9E-476C6AA0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AFE3-485C-4D18-94EC-0EACF7C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464-E2F3-4E87-9648-63B8597F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94D-E2D1-41D1-B37B-814812B2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1AE4-2ADA-4B1F-BE37-133B8693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606B-B0A0-46A8-AD30-8F870195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388D-EC40-4E7B-89A0-1F95DA41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204-795D-4CBC-814D-2ACB92DB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8A2-C7C9-4FE0-A8AC-F126B09C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CD65-96E4-4C20-ABA6-00450809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E339-AB8C-4345-A233-580B58A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A6E-F579-4916-BB19-B0430EAA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5DEA-C4EC-4EF9-BE8F-8C2029BF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8B09-7BA8-4FDB-9153-4F264F6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2EE2-90C8-4763-9F05-BDD9201F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C827-7770-4A77-B2BB-392FA7FC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0C6E-7AED-4808-AFEC-26602F23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A883-FCD3-445C-9FF8-A2CC0FB1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859-421C-4541-8B11-80F953A5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832-59A3-4E1C-8AA6-B63DF451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A576-E4DE-46F3-B394-AFA72ACE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E6DE-308C-4CE7-9165-486BAE91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196B-0448-4D01-9434-6DA582E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C84-2C8C-4CFB-9BAF-1FCE69B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BF4B-A671-49B9-A11D-D5D6188E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8BDC-B85C-496B-B17E-E3797A0D9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p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male sheep of any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522520"/>
            <a:ext cx="40384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ol from a she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taking a lamb and putting it with a ewe that is not its natural moth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young sheep of either s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at from a sheep older than one year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kin of an animal with the hair attac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astrated male she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l infection in animals that result in diarrhe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rap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ease in sheep and goats that shuts down the central nervous system which causes the animal to scratch and become unaw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horns that are just breaking through the s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1779480"/>
            <a:ext cx="403848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ep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 usually give birth once a year and have 1-3 lambs. Ewes typically give birth to tw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 grow two teeth a year until they have 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heep produces eight to ten pounds of wool per year, enough to make a man's suit. One pound of wool can make ten miles of y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 are the only source of lanolin - grease that comes from wool before it has been washed. Lanolin is used in lotions and cosme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 intestines from 11 sheep are needed to make one tennis r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tting of sheep's wo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151600" y="1600200"/>
            <a:ext cx="303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strated male shee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2446200"/>
            <a:ext cx="40384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ar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eep animal approximately one year of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 of putting a rubber band on the tail or scrotum to castrate or to do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used to describe a secure distention of the abdomen by g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 that is used as slang for ra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paration of fibers to prepare them for spinn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ing of the testicles of a male ani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mal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48320" y="2492280"/>
            <a:ext cx="40384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removing or shorting the tail of a anim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19840" y="1600200"/>
            <a:ext cx="3295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33880" y="3938760"/>
            <a:ext cx="3267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5:39:56Z</dcterms:created>
  <dc:creator>Julie</dc:creator>
  <dc:description/>
  <dc:language>en-US</dc:language>
  <cp:lastModifiedBy>Office</cp:lastModifiedBy>
  <dcterms:modified xsi:type="dcterms:W3CDTF">2009-06-26T14:35:15Z</dcterms:modified>
  <cp:revision>14</cp:revision>
  <dc:subject/>
  <dc:title>Sheep Terms</dc:title>
</cp:coreProperties>
</file>