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3BCDB6-85F2-456C-BC5F-5ED42EDDC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033FC-B987-45F4-8B73-B73F3D51A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BF83CA-79FD-4971-9E2E-1315E0A16A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1DBDD-B3C8-44AF-9C28-73B4A785FD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84747D-74F3-45F8-BF64-7553356070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BC6AD5-915D-4C8C-98C1-625F82E4AD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220AFC-220D-45DF-B295-169420292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CBE176-E419-44C6-B63F-2282950D21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5B40B9-D016-4577-B5F0-6A29A9A900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5BBD23-9B6C-46E5-82EF-F6E3E759EC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69447-6358-4B87-A2F7-32618F3C0A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D47E1-84D9-4366-98F1-977C7858C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E71E4F-A0CE-45DA-B32A-450C975A7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ACD1D5-15E8-4466-A29E-F9609ECD9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A50BDE-26EC-4C86-9FE7-16E71744ED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F728DA-64E6-430F-9AE5-9651BF505F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97B3FE-80C1-4E02-8B31-BD91B191BC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4B80D-77DA-474A-ABA7-9FCC50A28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791B9-A486-4D61-A803-D33DF9EE4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9B21E-46F2-42A6-B1FE-79A48EB2D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0D45B-0C53-4F3E-BFC4-B6E0183A9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A6284-727F-4F9C-BA8F-76FD239A1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0632B-9198-449C-9805-AF9C02DFC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AA283-1438-4245-9959-07B013B1A3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A1FAE-B3E2-4BC8-B0BB-28D375634C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6400800" y="6248520"/>
            <a:ext cx="2293920" cy="484200"/>
          </a:xfrm>
          <a:prstGeom prst="rect">
            <a:avLst/>
          </a:prstGeom>
          <a:ln w="0">
            <a:noFill/>
          </a:ln>
        </p:spPr>
      </p:pic>
      <p:sp>
        <p:nvSpPr>
          <p:cNvPr id="6" name=""/>
          <p:cNvSpPr/>
          <p:nvPr/>
        </p:nvSpPr>
        <p:spPr>
          <a:xfrm>
            <a:off x="457200" y="1447920"/>
            <a:ext cx="8229600" cy="0"/>
          </a:xfrm>
          <a:prstGeom prst="line">
            <a:avLst/>
          </a:prstGeom>
          <a:ln w="76320">
            <a:solidFill>
              <a:srgbClr val="1b75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C6BB6-AC45-4AA8-AF05-E06059033F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7" name="" descr=""/>
          <p:cNvPicPr/>
          <p:nvPr/>
        </p:nvPicPr>
        <p:blipFill>
          <a:blip r:embed="rId2"/>
          <a:stretch/>
        </p:blipFill>
        <p:spPr>
          <a:xfrm>
            <a:off x="2819520" y="5943600"/>
            <a:ext cx="3427200" cy="723960"/>
          </a:xfrm>
          <a:prstGeom prst="rect">
            <a:avLst/>
          </a:prstGeom>
          <a:ln w="0">
            <a:noFill/>
          </a:ln>
        </p:spPr>
      </p:pic>
      <p:sp>
        <p:nvSpPr>
          <p:cNvPr id="48" name=""/>
          <p:cNvSpPr/>
          <p:nvPr/>
        </p:nvSpPr>
        <p:spPr>
          <a:xfrm>
            <a:off x="457200" y="3581280"/>
            <a:ext cx="8229600" cy="0"/>
          </a:xfrm>
          <a:prstGeom prst="line">
            <a:avLst/>
          </a:prstGeom>
          <a:ln w="76320">
            <a:solidFill>
              <a:srgbClr val="1b75b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1b75bc"/>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1b75bc"/>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1b75bc"/>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ylinder Safety</a:t>
            </a:r>
            <a:endParaRPr b="0" lang="en-US" sz="4400" spc="-1" strike="noStrike">
              <a:solidFill>
                <a:srgbClr val="000000"/>
              </a:solidFill>
              <a:latin typeface="Arial"/>
            </a:endParaRPr>
          </a:p>
        </p:txBody>
      </p:sp>
      <p:sp>
        <p:nvSpPr>
          <p:cNvPr id="87" name="PlaceHolder 2"/>
          <p:cNvSpPr>
            <a:spLocks noGrp="1"/>
          </p:cNvSpPr>
          <p:nvPr>
            <p:ph type="subTitle"/>
          </p:nvPr>
        </p:nvSpPr>
        <p:spPr>
          <a:xfrm>
            <a:off x="762120" y="3886200"/>
            <a:ext cx="761976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fety Test Series – Exam 4 Re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9</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cylinder does not have a safety cap, the cylinder can be moved if extra safety practices are follow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lse</a:t>
            </a:r>
            <a:endParaRPr b="0" lang="en-US" sz="28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ylinders should not be handled without the safety cap attached.  Cylinder valves could be severely damaged in the event of a fa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10</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racking” a cylinder means tapping the cylinder valve with a hammer to remove ice, dirt, or water from the valve outl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lse</a:t>
            </a:r>
            <a:endParaRPr b="0" lang="en-US" sz="28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Cracking” is a term used to describe opening cylinder valves to blow out any dirt or debris resting in the valv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11</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xygen regulator and hose connections hav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hand threads</a:t>
            </a:r>
            <a:endParaRPr b="0" lang="en-US" sz="28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xygen fittings are always right handed and fuel fitting are left handed to insure minimal confusion in assemb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12</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cetylene regulator and hose connections have:</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ft-hand threads</a:t>
            </a:r>
            <a:endParaRPr b="0" lang="en-US" sz="28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uel connections also have a grove in the connecting fitting to indicate a distinguishable difference from oxygen fitt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13</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hand threads ru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ockwi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14</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ft-hand threads ru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nterclockwi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15</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n hoses are used fo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xygen</a:t>
            </a:r>
            <a:endParaRPr b="0" lang="en-US" sz="28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ost oxy-fuel hoses today are molded together as one piece and are referred to as a Siamese ho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16</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rm “purging” means to use oxygen or acetylene gas to clean out dirt and other foreign material from the regulators, hoses, and torc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ue</a:t>
            </a:r>
            <a:endParaRPr b="0" lang="en-US" sz="28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Generally, lines are purged during set-up before cutting or welding beg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17</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pose of the “reverse flow” valve is to prevent oxygen from entering the acetylene hose and acetylene from entering the oxygen ho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ue</a:t>
            </a:r>
            <a:endParaRPr b="0" lang="en-US" sz="28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f the gases being used are allowed to mix in the hose or regulator, they might explod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18</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xygen fittings have a groove around the middle of the connec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lse</a:t>
            </a:r>
            <a:endParaRPr b="0" lang="en-US" sz="28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uel fittings have a groove around the middle of the conn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1</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ylinders are normally constructed of mild steel plate and can be dented in not handled proper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alse</a:t>
            </a:r>
            <a:endParaRPr b="0" lang="en-US" sz="28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ylinders are normally constructed of steel and wrought iron as well as rolled, forged, or cast ste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19</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ylinders should never be lifted by the valve of safety ca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ue</a:t>
            </a:r>
            <a:endParaRPr b="0" lang="en-US" sz="28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valve can easily break off or be damag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20</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ert gas cylinders may be stored with  oxygen cylind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ue</a:t>
            </a:r>
            <a:endParaRPr b="0" lang="en-US" sz="28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nert gases do not react chemically with other substances.  Most inert gases used in shops are argon, carbon dioxide, and heli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2</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til they are given permission by their instructor, welders should not attempt to move cylinders from the storage area:</a:t>
            </a:r>
            <a:endParaRPr b="0" lang="en-US" sz="32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rue</a:t>
            </a:r>
            <a:endParaRPr b="0" lang="en-US" sz="28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t is a good safety practice to seek permission from the instructor before any repairs or refills are made.  The instructor is essential the shop manager and management approval is generally required.</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3</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xygen and acetylene cylinders can be stored together outside the welding area:</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alse</a:t>
            </a:r>
            <a:endParaRPr b="0" lang="en-US" sz="28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xygen and acetylene cylinders stored together create an explosive scenario in the event of a fire.  Acetylene and oxygen are two parts of the fire triang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4</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oxygen and acetylene cylinders are stored separately, they must be separated by a 5 foot high wall with a 30 minute burning rating or be separated by at least 20 feet.</a:t>
            </a:r>
            <a:endParaRPr b="0" lang="en-US" sz="32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rue</a:t>
            </a:r>
            <a:endParaRPr b="0" lang="en-US" sz="28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purpose of the distance or wall is to keep the heat of a small fire from causing the oxygen cylinder safety valve to rele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5</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oxygen and acetylene cylinders should be stored verticall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rue</a:t>
            </a:r>
            <a:endParaRPr b="0" lang="en-US" sz="28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ll cylinders should be stored vertically and have protective safety caps attach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6</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for some reason, an acetylene cylinder has been lying on its side, place it in an upright position and wait at least 15 minutes before using the cylinder.</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rue</a:t>
            </a:r>
            <a:endParaRPr b="0" lang="en-US" sz="2400" spc="-1" strike="noStrike">
              <a:solidFill>
                <a:srgbClr val="000000"/>
              </a:solidFill>
              <a:latin typeface="Arial"/>
            </a:endParaRPr>
          </a:p>
          <a:p>
            <a:pPr lvl="1" marL="743040" indent="-285840">
              <a:spcBef>
                <a:spcPts val="601"/>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cylinder is filled with a porous material, and then acetone is added to the cylinder, where it absorbs about 24 times its own weight in acetylene.  Placing the cylinder upright allows the acetone to even o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7</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ver move a cylinder that has an attached regulato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ue</a:t>
            </a:r>
            <a:endParaRPr b="0" lang="en-US" sz="28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exception is if the cylinder is secured by chain to a cylinder cart in u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 8</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ver move a cylinder by rolling it on its edge.  It may break the floor or roll over another welder’s foo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lse</a:t>
            </a:r>
            <a:endParaRPr b="0" lang="en-US" sz="2800" spc="-1" strike="noStrike">
              <a:solidFill>
                <a:srgbClr val="000000"/>
              </a:solidFill>
              <a:latin typeface="Arial"/>
            </a:endParaRPr>
          </a:p>
          <a:p>
            <a:pPr lvl="1" marL="743040" indent="-285840">
              <a:spcBef>
                <a:spcPts val="700"/>
              </a:spcBef>
              <a:buClr>
                <a:srgbClr val="1b75b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olling cylinders on their edge is the safest way to move a cylinder from place to place in the sho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21:50:05Z</dcterms:created>
  <dc:creator>Julie</dc:creator>
  <dc:description/>
  <dc:language>en-US</dc:language>
  <cp:lastModifiedBy>tmilligan</cp:lastModifiedBy>
  <dcterms:modified xsi:type="dcterms:W3CDTF">2009-08-19T22:11:29Z</dcterms:modified>
  <cp:revision>47</cp:revision>
  <dc:subject/>
  <dc:title>Slide 1</dc:title>
</cp:coreProperties>
</file>