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CC72-8723-44AB-A1A2-22442BAC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851-058B-41D8-A094-EE682B57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78A-E013-4BB9-9D59-BA0235E6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D3D-70BA-43B9-B26E-3D2BEF8E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E0E6-1F79-4FC6-AAC8-77A2A46B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6A62-7EB0-427C-9DEF-27FC2623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9A82-AFC9-4B4E-90DF-50757714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561B-202C-475A-831A-AE4B1CA8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460D-427F-4ABD-A523-9242E54D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BEE3-5253-4593-A8DA-C2E4FBDC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A32A-59C7-477F-9240-8F45963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C87-EBC6-49B9-A24E-2C0351E2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8A05-D1E6-4E74-9CAD-D48B6478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E9DA-EE61-42D9-81BF-C1A0262F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745C-C98A-4A02-8D5A-0483B87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E8C5-31AC-4B7F-8346-4351FEFB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4FD0-8955-4A90-BEC8-220907AF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D56-3049-4B45-8A58-258CEBD4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052-CEBF-4373-8146-C9E70376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869-3429-4EB3-92EE-4F5A52BD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BD0C-89F0-4F93-8D1C-A7C506CB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929-84EE-46F9-8803-F2EFE137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FD8-EDA4-4E97-9377-0F4E71FE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D08-87D5-4C09-8974-8755DE5A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21CE-69FB-4F7C-BB5C-F78672359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97AF-6B28-47BB-B197-2A9D02C28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ltr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cker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le chicken under one year of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2521080"/>
            <a:ext cx="40384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ouse or building that birds live 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ish Game 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oung chicken (usually four to six weeks of age) not more than two pounds in dressed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uch in the chicken's throat where food colle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particles of dead skin or feather p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le du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used to describe a female du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ck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oung du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used to describe a group of chick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g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gee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ltry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cken will lay bigger and stronger eggs if you change the lighting in a way to make her think a day is 28 hour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9 billion chickens are raised for food annually in the 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en must eat about four pounds of feed to produce one dozen eg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ld turkey is native to northern Mexico and the eastern United St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d turkeys also have more dark meat than domesticated turkey, which is bred to have more white me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Bi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rds hunted for f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used to describe a male go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l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used to describe the portion of poultry carcasses that consist of hearts, gizzards, and liv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zz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nal organ that uses grit to grind up the fiber that a chicken ea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s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oung go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8320" y="2301840"/>
            <a:ext cx="40384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used to describe a female go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by which a bird comes out of the eg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2398680"/>
            <a:ext cx="4038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tch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siness that hatches poultry eg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used to describe a female of all classes of poul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162400" y="1600200"/>
            <a:ext cx="300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ub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chine where eggs are kept in a controlled environment until the chicks hat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b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hite portion of the eg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s of pullets producing shell eg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oung tur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92840" y="1600200"/>
            <a:ext cx="334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male chicken that has not yet started laying eg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vy young chickens less then 12 weeks of age with live weights heavier than seven pou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le chicken usually kept for bree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ain fed to chicke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nt 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n that is no longer laying we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p protrusions on a rooster’s shan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ture male turk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portion of the egg composed of water, protein, and glycer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hickens less than 12 weeks of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rmed and protected enclosure where young chicks are rai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utered male chicken produced for the specialty and holiday meat mark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mature chicken or young chic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tch of eggs that are hatched toge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ture male chicken over one year of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6:03:42Z</dcterms:created>
  <dc:creator>Julie</dc:creator>
  <dc:description/>
  <dc:language>en-US</dc:language>
  <cp:lastModifiedBy>Office</cp:lastModifiedBy>
  <dcterms:modified xsi:type="dcterms:W3CDTF">2009-07-01T15:21:01Z</dcterms:modified>
  <cp:revision>14</cp:revision>
  <dc:subject/>
  <dc:title>Poultry Terms</dc:title>
</cp:coreProperties>
</file>