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CD5-A9D8-40D8-8B79-F79D6FB0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EF7E-EEA6-45A7-9ACC-2D396B14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BED-85D7-4021-BF55-1BCB5E83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562D-CEF3-4B79-9DFB-2336FD56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FCCE-6FA3-4A9E-9703-40D760A7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FA52-9392-40D7-BCC1-9E48C76E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C900-A0B2-4E3C-AC43-43607C39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0BEF-F206-4A94-B0F5-776C3A9A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E28F-31DA-4E98-BBFE-B9FE09F0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494B7-1487-4740-BEDD-707A720D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EB2B-3857-4262-9C67-21067999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1538-8BE5-4A1A-A5D0-F8CD157A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F3BD-0D89-4AD2-AD7F-B04BF91C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1526-3A18-4ABD-8149-5B2764E2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A53B-E9BD-4BE0-A776-B4B8E174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2D7D-3169-4C71-87FD-AA3D86D4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58EB-307B-4231-A0BD-0B5FF3E2F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019-4B47-4952-BFE4-4DC7880F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41D-84FB-4D81-8C86-F85F5452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711-9A0E-47BA-AB5F-2D27793A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B3D-3BE1-43CB-91E9-31992B68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64B-5E39-457F-9046-2FBB86F2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268-6D9A-4B4E-9364-47555D8B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568D-2FB9-4827-8B13-51C29DEF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82CB-8676-4951-BD6D-62D8E4565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9F9F-C8CC-4059-9D2C-7882D208A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58128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wear ragged or baggy clothing when working around machin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match or lighter to light an oxy-gas to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– Always use a flint stri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en hose can be attached to the acetylene regula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– The green hose is for oxygen and has right handed thr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etylene hose is fitted with left hand threa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– The acetylene hose is also 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gged clothing is not flamm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– The fringes on ragged clothing can catch fire easi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shop clean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– Hazards are reduced in a clean sh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eplay is appropriate at some times in the sh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– Horseplay is never appropriate and will cause acci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adjust metal while cu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– Adjusting metal will cause an imperfect c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tands under heavy objects for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– Stands will prevent objects from falling and crushing lim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set the acetylene working pressure above 15 p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– Acetylene becomes unstable at distribution rates above 15 p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always learn the right way to do a jo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rewdriver can also be used as a chi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– Always use a tool for its proper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shop rules and guide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– Shop rules and guidelines are in place to protect your well be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 always yell “cover” before striking an ar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e all warning signs and ta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wear eye prot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proper tool for the jo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operate a machine unless you have been taught to ru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all injuries to instruc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equipment that is damag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50:05Z</dcterms:created>
  <dc:creator>Julie</dc:creator>
  <dc:description/>
  <dc:language>en-US</dc:language>
  <cp:lastModifiedBy>Mr. Milligan</cp:lastModifiedBy>
  <dcterms:modified xsi:type="dcterms:W3CDTF">2009-08-14T04:00:11Z</dcterms:modified>
  <cp:revision>53</cp:revision>
  <dc:subject/>
  <dc:title>Slide 1</dc:title>
</cp:coreProperties>
</file>