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5711-9E46-42CF-A04A-904D3096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1EA9-72DE-4C61-88CD-BCBCEB96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2BB-FA1F-415B-8633-9282BD44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83B-ACA2-4A6C-8DC2-8EDE3E2A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77A1-EF07-4C10-A541-487ABCD2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9540-9217-45F0-95F6-509264AD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C6A0-B8F1-4B62-965B-9FF606AF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5DBC-0CEC-4C22-A11B-63784FE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70EB-7619-4D34-83AD-35DF5236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2A71-B18E-482B-B64C-539410F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E6C-FB50-4120-AF0B-8525EC8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AFB1-F93B-436A-93E9-AB9CDEF4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A9BA-EB4C-4C44-8392-259FBBBB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2FE8-F184-4095-9FFC-04176DEA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F27D-9523-401B-8287-0B0F7DE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226F-324B-46F2-978A-85532AC2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A5A0-9A1D-4156-A0A7-DADF01B5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2F9-FF06-443A-91AD-8CE41003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0CC-08DD-4252-902C-89D0BB7B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9682-8595-4AA6-8676-C9925CC5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ABD8-B76C-4E8D-9036-51ACC02C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D49-D6DB-4955-BBA1-AE1D1F4E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B94-7F39-4D47-BC74-3F1B4469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E19-77A2-45BF-BD93-73240370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12D-389C-4AB7-A370-5F0D642D0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A86D-0364-4F61-A30F-7AF1306C7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e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Test Series – Exam 5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fire triangle is considered any combustible mater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fire triangle is needed in order to raise the fuel to its ignition tempera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rt of the fire triangle is necessary to sustain combu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s that occur in ordinary combustible materials such as wood, rags, and rubb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mbol for a type A extinguisher is a green triangle with the letter A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s that occur with flammable liquids such as gasoline, oil, grease, paints, and thi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B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mbol for a type B extinguisher is a red square with the letter B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s that occur in or near electrical equipment such as motors, switchboards, and electrical wi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C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mbol for a type C extinguisher is a blue circle with the letter C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s that occur with combustible metals such as zinc and magnes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 D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symbol for a type D extinguisher is a yellow star with the letter D in the c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designates non-critical parts of equipment and machined surfaces, nameplates, bearing surfaces, safety and first-aid equip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designates operating levers, wheels and handles; hazardous areas that may cause stumbling, falling, or tripping; ca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designates electrical switches; interior surfaces of doors on fuse and electrical boxes; movable guards and parts; inside of non-movable guards; traffic lanes and overhead hazards; dangerous parts of equipment that may cut, crush, shock, or otherwise inj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lor designates location of fire-fighting equipment; emergency exits; off buttons, or levers for stopping electrical equipment; gasoline cans (with an additional yellow band around the ca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tmilligan</cp:lastModifiedBy>
  <dcterms:modified xsi:type="dcterms:W3CDTF">2009-08-19T22:44:17Z</dcterms:modified>
  <cp:revision>48</cp:revision>
  <dc:subject/>
  <dc:title>Slide 1</dc:title>
</cp:coreProperties>
</file>