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5674-0852-4155-8026-01DDCFBB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77A-4D23-422B-91BF-099F2AE2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A17-5FC4-41C6-9F80-E062F3C3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193-0191-4F41-8405-F3AB6D3C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6352-156A-4F0E-8988-5216C58B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8027-B531-4118-AC58-A9E6155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C67D-D35A-4B66-A6C7-C649F161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2F1C-7C33-442E-B15B-220DDD17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B0FD-FF6E-4240-BC6E-47D9769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0C42-4E80-4F5E-95C9-7759C00F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4F17-B535-4C3E-B6E4-EADDF6C8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039-1AAD-4EBA-8032-CDEC958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90D0-2084-45CF-8601-A3965D72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DB30-7233-4558-8DE1-EA2E2D3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6C24-C928-4E6B-A4B8-91F24D22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112-A6A9-4C9B-9AC6-5595A5FC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D3B-1509-4976-8665-FEE665EE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A67-ED1E-4499-BDE7-2B3C8DEA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0AD-05E6-4647-AAAC-42593E9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DD04-535E-4046-A819-14A5453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727-E35B-4671-8B4B-76FDA015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9B9-B7EA-4EF2-81EE-DA52C8E3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B62-0B08-4273-A481-5038D699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FD47-09A9-4961-9501-2F2AAB0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992-B366-4EF0-98A7-F4ADF597F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CD9-8EDE-4B52-9E3B-955A9D1F6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lif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ctur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most active at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B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305080"/>
            <a:ext cx="4038480" cy="311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lationship where one organism (the parasite) benefits from the other (the hos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st is usually ha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Dogs and ti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sm that lives by preying on other org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eaten by a pre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ld blooded vertebrate that usually lays eggs and has a body covered in scales or leathery s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nakes or turt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l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wland area, that has excessive moisture, such as a marsh or swamp, and is usually the habitat to various wildlif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living in their natur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phi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d blooded organism that hatches as an aquatic animal with gills and then transforms into a land dwelling animal with lu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Frogs, salam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s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238608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one species benefits from another species that is unaff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Vulture eating a deer that has been killed by co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ur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ctive during the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agles or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9960" cy="4524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ranch of biology that studies relations and interactions between organisms and their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where wildlife normally l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warm blooded animals with a vertebrate, and nourish their young with milk from the mammary glands of the fem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dolphins, horses, 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al movement of wild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Geese flying south for the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ifferent species associates in a way in which each member benef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Bee pollinating f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Julie</cp:lastModifiedBy>
  <dcterms:modified xsi:type="dcterms:W3CDTF">2009-08-10T20:00:14Z</dcterms:modified>
  <cp:revision>39</cp:revision>
  <dc:subject/>
  <dc:title>Slide 1</dc:title>
</cp:coreProperties>
</file>