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A60E-A660-4136-BE78-0A0D71A1C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8304-9F0A-47C1-A4F0-AF4FB9AD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3614-DE3B-436F-A9FC-E6E771D56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D563-0D63-4EC7-BB09-F1DF89EC5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395F-4F16-4AA2-9213-49F5A7E55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4833-B149-4E84-A8F8-BA6433B5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9159-D97A-49B1-90E1-11772D5C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EB82-EE49-4878-8796-56307FB2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81CD-0E29-4BC8-AF78-208DD6DE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4295-983C-40A9-8864-C66CBF05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C8CC-0572-4B2E-A76D-96A2F988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AEC9-E4D3-48BD-80B5-EE565106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A184-52F4-4093-8919-4E7F6F23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8D91C-6909-40C4-8CFB-A6E3083A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58F4-2414-4B8B-A028-03E3D5D3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3C22-6F7F-4E06-A7B7-6E5473D02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370B-5538-4BBB-92CB-0F6F6AA84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2A8D-817C-4814-9638-BC49D2B8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E88F-FB8B-4339-AAD8-62FF47A2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20DC-314F-497B-9D79-852CDCBB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3A7E-CA49-4A9F-97D4-EDDE3790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DD26-E881-4642-970B-C04C4A83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2B0A-9293-4368-8153-B189DC63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F099-EC3D-415B-BD2B-13579831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704E-FDDA-4D07-A21C-D1229FBA7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400800" y="6248520"/>
            <a:ext cx="2293920" cy="4842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57200" y="1447920"/>
            <a:ext cx="8229600" cy="0"/>
          </a:xfrm>
          <a:prstGeom prst="line">
            <a:avLst/>
          </a:prstGeom>
          <a:ln w="76320">
            <a:solidFill>
              <a:srgbClr val="1b7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8CBC-0133-450D-86E2-FC3ED9059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819520" y="5943600"/>
            <a:ext cx="3427200" cy="723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3581280"/>
            <a:ext cx="8229600" cy="0"/>
          </a:xfrm>
          <a:prstGeom prst="line">
            <a:avLst/>
          </a:prstGeom>
          <a:ln w="76320">
            <a:solidFill>
              <a:srgbClr val="1b7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b75b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fe Use of Equi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619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ty Test Series – Exam 2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is not part of an arc welding circui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de h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ding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ding bo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ble l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b75b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lding bo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welding machine is not properly grounded, the current may enter the welder’s body and cause sh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– It is important to have sufficient ground while wel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the insulation around the jaws of an electrode holder is to prevent the metal jaws from coming in contact with the welding table or the work pie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– Without this insulation, the electrode holder could arc on the base me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electrode holder being used becomes hot, the cause may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oose cable clamp or lead or the need for a larger electr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ding cables are made of thousands of hair-like copper wi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ssume that a welding machine is safe to use unless it has been disconnected from the outlet and a lock has been placed on the circuit box swit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se – Never assume any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the ground clamp is to provide a path for current to flow from ground cable to the welding mach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– When dealing with electricity, the circuit must be closed in order for welding to occ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find that a ground or electrode cable is loose where it is connected to the ground or electrode lug, you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it to your instru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electrode holder is forced against the base metal, enough heat energy is produced to cause the electrode and the base metal to mel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– SMAW (stick) and GMAW (mig) use consumable electro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check the cable connections to the ground clamp and electrode holder before you start to w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– Inspection of equipment prior to use is a good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tual process of arc welding began in the early _______ when Sir Davey discovered that an electrical current would jump an air ga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70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wrapping paper or other material around the cable scooper wires is to prevent moisture from gathering on these wi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– Welding cables are wrapped in a material to prevent moisture from gathering on the copper wi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notice a damaged ground or electrode cable, continue to use the welding machine until the instructor tells you that the cables are unsa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se – Never use damaged equipment.  An out of order sign should be placed on damaged equip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c welding _____ is the most important part of the arc welding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an arc welding machine is to transform electrical energy into heat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– The air gap between the electrode and base metal creates enough heat through resistance for welding to take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 energy is the type of energy needed for the welding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 – Heat is generated through resi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pere is defin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unit of measure for the movement of electron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is defin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vement of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istance is defin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riction or opposition to electron f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tage is defin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rce behind the movement of elect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21:50:05Z</dcterms:created>
  <dc:creator>Julie</dc:creator>
  <dc:description/>
  <dc:language>en-US</dc:language>
  <cp:lastModifiedBy>Mr. Milligan</cp:lastModifiedBy>
  <dcterms:modified xsi:type="dcterms:W3CDTF">2009-08-14T04:34:21Z</dcterms:modified>
  <cp:revision>54</cp:revision>
  <dc:subject/>
  <dc:title>Slide 1</dc:title>
</cp:coreProperties>
</file>