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B8E-6EA1-4F40-870E-138CEEC0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9FC-861A-4762-A7BB-6C304790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58A-7D61-41D4-A784-20D2DA66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B0C-8C5C-4441-A973-0ED8BBAC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D85F-F24C-4CF9-8DD1-04248BD5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D5F2-5D5F-402E-9FB0-EF555478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6883-E38A-4484-9816-F21E532A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84C6-4F98-4F29-9DCE-8C147BF5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92E3-C88C-4395-B9C7-45AFFBC4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A992-CE48-406D-A420-FF01B30D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2C22-855B-4C52-865E-3606017A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B13-92D0-4B9D-AD07-FC5ED96E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FEA3-748A-4782-93AF-7BE96860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3F63-7756-413F-B129-CADD1562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27F0-4AEB-42A5-B98E-3BC2759B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BC40-A58B-4CBC-846C-A0CA7A7A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F6BA-DFE6-4881-997C-D0506AB9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A42-433C-4635-B977-CEDCD152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0EF-9075-4C47-8EF6-7FE0ED18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0BC-23D5-4C6F-8ED5-390268FE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32F-510B-42C3-806D-2CC0601F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E69-D46B-4458-81F9-A80567C3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DFC-8EF3-40BE-A970-BAE0B140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12E-11C2-450C-B01A-791C1321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CFB5-BDD9-4397-B560-BC41E62BE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6838-2DBF-4842-B01A-4865F3BC3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8128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Safe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Proper At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Test Series – Exam 1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eyes start to hurt, you should check with experienced welders to find out what home remedies they use and then use the same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Medical advice from a professional should be obta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degree burns can occur if a welder’s skin is exposed to ultraviolet r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nd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a filter lens in a welding helmet is to screen out ________ of the damaging light r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% - It is impossible to filter 100% because the arc would not be vi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 is the amount of tint in a filter l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e – In arc welding, typically shades range from 8 – 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r the filter lens number, the easier it is to see through the l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The higher the lens number, the darker the sh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five lens is darker than a number ten l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- The higher the lens number, the darker the sh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I stand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National Standard 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you are in a welding area, you should wear safety glasses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or Side Shields – Prevents flash burns or debris from entering the side of the safety g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ultraviolet rays, welding also produ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red rays – Infrared rays are the form of light felt as h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ype of clothing should not be worn while wel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tic fiber short, pants, or shi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hetics melt and adhere to the skin when exposed to extreme h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ders are one of the nations most respected and sought after professionals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rly all manufacturing and building industries require welding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ders wear ear plugs to keep flying sparks out of their 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Ear plugs also prevent hearing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reason welders wear leather gloves is to protect their hands from heat and ultraviolet r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Leather gloves also protect hands from cuts and abrasions from metal b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must be your first concern in any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– Machines and equipment can be replaced – human life can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good welders had to retire before they were ready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inj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of the ________ is the most important concern for any wel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der should never look straight at a welding arc without a pair of sunglasses, or similar glasses, that cut out the bright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Sunglasses are not an OSHA approved shade.  Welding helmets should be used for eye protection with Z87 approved sh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lding arc can be dangerous because it can produce a visible form of light called ultraviolet r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Ultraviolet rays are not vi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violet rays are similar to rays from the sun; however, they will not cause sunburn like rays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Ultraviolet rays can cause bur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dition called ________ occurs when ultraviolet rays strike the white part of the e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Burn – Symptoms of a flash burn are not noticed for several hours after occurrence.  Symptoms include red and irritated ey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50:05Z</dcterms:created>
  <dc:creator>Julie</dc:creator>
  <dc:description/>
  <dc:language>en-US</dc:language>
  <cp:lastModifiedBy>Mr. Milligan</cp:lastModifiedBy>
  <dcterms:modified xsi:type="dcterms:W3CDTF">2009-08-14T03:42:30Z</dcterms:modified>
  <cp:revision>50</cp:revision>
  <dc:subject/>
  <dc:title>Slide 1</dc:title>
</cp:coreProperties>
</file>