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9F9-7179-40F8-8943-0A0A30E0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E28-78BB-46B4-BE2B-6432E08A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02B-3A62-44B3-81B2-0A8BDF42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3C1E-73EE-49F4-A26F-E7765F60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D3AB-5A1D-410D-A0B5-4C0D3487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3D3D-766F-4158-9328-1E9397C3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1322-A20B-4630-86D9-0E868F35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0FD2-AC34-4AF4-AA02-E1DFCEF0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867C-F7E4-4542-B0BF-AFBCC137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391B-4C66-4567-BB5E-253AEFCE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DE8D-AF56-4101-A86A-AF54F5F0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D4A-B1EC-4F59-8782-13458F6F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FC31-EB26-4F41-950C-040F5FBE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60D8-2DB8-4B6E-9918-410A3293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B54E-AB89-4D52-9795-B9A9CB1E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F57C-5256-4AA6-8A2B-C6D987F8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B8FF-0261-4096-9760-58E4B53F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852-FD81-4999-83B2-E8FC4046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C54D-6A24-446F-920D-04932C90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A4F8-4F58-4FDB-9ADA-002A0A51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C44-7299-4FC2-87D5-10CA8F3B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DE2-5FCB-40CB-89F1-84DADFE9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6ED-2A41-4AAC-836C-2C43F51C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9DD-BE62-4483-9D4A-B2A2E48E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4DA9-9087-4F2B-96F9-E9824916C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DC53-C5C9-4D95-B9C8-830563518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tic makeup of an a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iod of development in the ut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h of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ion of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bre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ing of individuals within a particular line or with a shared ance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ytoc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ormone that is important in milk letdown and contra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also stimulate uterine contra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u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 of giving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dig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57440" y="1828800"/>
            <a:ext cx="2971800" cy="37339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ertificate that indicates two generations of background genetic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otyp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al make-up of an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eb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imal that meets a breeds standards and is registered in that breeds herd 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41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 substance that a male produces in there reproductive sys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on of the male sperm and female ov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le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ner in which pigs are removed from the sow and are not longer allowed to depend on the mothers milk for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bre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ing of different breeds of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nimal in the early stages of growth prior to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dure used in animal breeding in which an embryo is implanted into a surrogate m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Progeny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predict the performance of future offspring from an individual a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95320" y="1600200"/>
            <a:ext cx="403884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of heat in an female an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productive cycle of the 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45:12Z</dcterms:created>
  <dc:creator>Julie</dc:creator>
  <dc:description/>
  <dc:language>en-US</dc:language>
  <cp:lastModifiedBy>Julie</cp:lastModifiedBy>
  <dcterms:modified xsi:type="dcterms:W3CDTF">2009-07-06T16:13:47Z</dcterms:modified>
  <cp:revision>9</cp:revision>
  <dc:subject/>
  <dc:title>Reproduction Terms</dc:title>
</cp:coreProperties>
</file>